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3D8-D6F0-4289-BAE4-989A15A5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A704-7C22-474D-8EE0-79F14659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E2D-D508-45DC-BD9F-AD65E28C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E97-07D6-420A-B815-CB4B7F3E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037-E866-48DD-BE4F-BF9FD5B5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73F-F294-47E1-857A-D269B133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3DA-AD54-4E93-A126-52AFCFAB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505-4EE7-40F4-8C56-2B7558A3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20C-78A9-455D-B0EC-D7B17DB7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68B-6DD2-4D75-8E47-2B3A7E89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1F1-696C-4768-9A26-2D2CAA73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16F-70FD-4437-9E22-6EA74DAC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3755-B0F1-444E-9A13-FECCBC0F30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1989000"/>
            <a:ext cx="9144000" cy="935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Challenge 1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Fill in the gaps with the right part of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avoir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+ 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past participle. </a:t>
            </a: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* = irregular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acques Prevert Paris, 1955 Art Print by Robert Doisneau"/>
          <p:cNvPicPr/>
          <p:nvPr/>
        </p:nvPicPr>
        <p:blipFill>
          <a:blip r:embed="rId3"/>
          <a:stretch/>
        </p:blipFill>
        <p:spPr>
          <a:xfrm>
            <a:off x="7583400" y="73080"/>
            <a:ext cx="1471680" cy="184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2531880" y="35280"/>
            <a:ext cx="406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Déjeuner du m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Jacques Pré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-181080" y="1052640"/>
            <a:ext cx="745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ff"/>
                </a:solidFill>
                <a:latin typeface="Tahoma"/>
              </a:rPr>
              <a:t>This is a very famous poem by a well-known French poet.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   The title in English means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924280"/>
            <a:ext cx="9144000" cy="93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hallenge 2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Complete the crossword, using the poem to help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you find the answers to the c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3860640"/>
            <a:ext cx="9144000" cy="1224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Challenge 3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Use the crossword clues, the irregular verbs shee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and your brain to work out what is happening in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the poem. Make notes next to the poem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0" y="5084640"/>
            <a:ext cx="9144000" cy="863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Challenge 4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actise reading the poem out with a good French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accent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ink about common sound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5950080"/>
            <a:ext cx="914400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hallenge 5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oduce an illustrated version of the poem, with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pictures to show all the things that are hap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536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ahoma"/>
              </a:rPr>
              <a:t>Déjeuner du matin</a:t>
            </a:r>
            <a:r>
              <a:rPr b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mis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le café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Dans la tass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mis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le lait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Dans la tasse de café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mis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le sucr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Dans le café au lait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Avec la petite cuiller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tourné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bu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le café au lait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Et 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reposé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la tass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ans me parler</a:t>
            </a:r>
            <a:br>
              <a:rPr sz="2100"/>
            </a:b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allumé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Une cigarett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fait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des ronds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Avec la fumé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mis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les cendres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Dans le cendrier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ans me parler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ans me regar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716360" y="44280"/>
            <a:ext cx="4427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0" y="404640"/>
            <a:ext cx="457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l s’est levé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Tahoma"/>
              </a:rPr>
              <a:t>a mi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n chapeau sur sa têt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Tahoma"/>
              </a:rPr>
              <a:t>a mi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n manteau de plui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rce qu’il pleuva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 il est parti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s la plui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ans une paro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ans me rega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 moi j’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Tahoma"/>
              </a:rPr>
              <a:t>ai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Tahoma"/>
              </a:rPr>
              <a:t>pri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 tête dans ma mai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 j’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Tahoma"/>
              </a:rPr>
              <a:t>ai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Tahoma"/>
              </a:rPr>
              <a:t>pleuré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Jacques Prevert Paris, 1955 Art Print by Robert Doisneau"/>
          <p:cNvPicPr/>
          <p:nvPr/>
        </p:nvPicPr>
        <p:blipFill>
          <a:blip r:embed="rId1"/>
          <a:stretch/>
        </p:blipFill>
        <p:spPr>
          <a:xfrm>
            <a:off x="7524720" y="4869000"/>
            <a:ext cx="147168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536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ahoma"/>
              </a:rPr>
              <a:t>Déjeuner du matin</a:t>
            </a:r>
            <a:r>
              <a:rPr b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a mis le café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Dans la tass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a mis le lait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Dans la tasse de café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a mis le sucr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Dans le café au lait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Avec la petite cuiller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a tourné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a bu le café au lait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Et il a reposé la tass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ans me parler</a:t>
            </a:r>
            <a:br>
              <a:rPr sz="2100"/>
            </a:b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a allumé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Une cigarett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a fait des ronds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Avec la fumé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a mis les cendres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Dans le cendrier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ans me parler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ans me regar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716360" y="44280"/>
            <a:ext cx="442764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0000"/>
                </a:solidFill>
                <a:latin typeface="Tahoma"/>
              </a:rPr>
              <a:t>Breakfast in the mor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He put the coffe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In the c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He put the mil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In the cup of coffe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He put the sug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In the milky coffe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With the little spo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He stirr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He drank the milky coffe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And he put the cup dow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Without speaking to 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He l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A cigaret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He made r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With the smok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He put the ash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In the ashtr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Without speaking to 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Without looking at 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Jacques Prevert Paris, 1955 Art Print by Robert Doisneau"/>
          <p:cNvPicPr/>
          <p:nvPr/>
        </p:nvPicPr>
        <p:blipFill>
          <a:blip r:embed="rId1"/>
          <a:stretch/>
        </p:blipFill>
        <p:spPr>
          <a:xfrm>
            <a:off x="7524720" y="4005360"/>
            <a:ext cx="147168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370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s’est levé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a mi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n chapeau sur sa têt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a m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n manteau de plui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ce qu’il pleuvai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t il est parti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s la plui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ns une parol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ns me reg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t moi j’ai pr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 tête dans ma mai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t j’ai pleur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81440" y="404640"/>
            <a:ext cx="442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He go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He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His hat on his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He pu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His rain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Because it was 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And 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In the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ithout a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ithout looking at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And me, I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My head in my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And I cr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acques Prevert Paris, 1955 Art Print by Robert Doisneau"/>
          <p:cNvPicPr/>
          <p:nvPr/>
        </p:nvPicPr>
        <p:blipFill>
          <a:blip r:embed="rId1"/>
          <a:stretch/>
        </p:blipFill>
        <p:spPr>
          <a:xfrm>
            <a:off x="7754760" y="5157720"/>
            <a:ext cx="12416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Things to think abo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ahoma"/>
              </a:rPr>
              <a:t>5 minutes discussion in groups of 2 or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o is the narrator (the person telling the story) in the po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re they male or fema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relationship are they to the other per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has happened before the events in the po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do you think might happen afterw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Jacques Prevert Paris, 1955 Art Print by Robert Doisneau"/>
          <p:cNvPicPr/>
          <p:nvPr/>
        </p:nvPicPr>
        <p:blipFill>
          <a:blip r:embed="rId1"/>
          <a:stretch/>
        </p:blipFill>
        <p:spPr>
          <a:xfrm>
            <a:off x="7658280" y="2060640"/>
            <a:ext cx="12650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Common sound patterns in the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* Remember – the last letter in a word is usually si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an/en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   </a:t>
            </a:r>
            <a:r>
              <a:rPr b="0" i="1" lang="en-GB" sz="1800" spc="-1" strike="noStrike">
                <a:solidFill>
                  <a:srgbClr val="6600ff"/>
                </a:solidFill>
                <a:latin typeface="Tahoma"/>
              </a:rPr>
              <a:t>sounds like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on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6600ff"/>
                </a:solidFill>
                <a:latin typeface="Tahoma"/>
              </a:rPr>
              <a:t>(if you say it holding your nos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ui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6600ff"/>
                </a:solidFill>
                <a:latin typeface="Tahoma"/>
              </a:rPr>
              <a:t>sounds like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w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er/é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6600ff"/>
                </a:solidFill>
                <a:latin typeface="Tahoma"/>
              </a:rPr>
              <a:t>sounds like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 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au/eau  </a:t>
            </a:r>
            <a:r>
              <a:rPr b="0" i="1" lang="en-GB" sz="1800" spc="-1" strike="noStrike">
                <a:solidFill>
                  <a:srgbClr val="6600ff"/>
                </a:solidFill>
                <a:latin typeface="Tahoma"/>
              </a:rPr>
              <a:t>sounds like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eu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         </a:t>
            </a:r>
            <a:r>
              <a:rPr b="0" i="1" lang="en-GB" sz="1800" spc="-1" strike="noStrike">
                <a:solidFill>
                  <a:srgbClr val="6600ff"/>
                </a:solidFill>
                <a:latin typeface="Tahoma"/>
              </a:rPr>
              <a:t>sounds like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oi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6600ff"/>
                </a:solidFill>
                <a:latin typeface="Tahoma"/>
              </a:rPr>
              <a:t>sounds like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ain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         </a:t>
            </a:r>
            <a:r>
              <a:rPr b="0" i="1" lang="en-GB" sz="1800" spc="-1" strike="noStrike">
                <a:solidFill>
                  <a:srgbClr val="6600ff"/>
                </a:solidFill>
                <a:latin typeface="Tahoma"/>
              </a:rPr>
              <a:t>sounds like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an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6600ff"/>
                </a:solidFill>
                <a:latin typeface="Tahoma"/>
              </a:rPr>
              <a:t>(if you say it holding your nos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Jacques Prevert Paris, 1955 Art Print by Robert Doisneau"/>
          <p:cNvPicPr/>
          <p:nvPr/>
        </p:nvPicPr>
        <p:blipFill>
          <a:blip r:embed="rId1"/>
          <a:stretch/>
        </p:blipFill>
        <p:spPr>
          <a:xfrm>
            <a:off x="7524720" y="2781360"/>
            <a:ext cx="1471680" cy="1843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0" y="6093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w we’re going to go round the class – everyone read on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Arial"/>
              </a:rPr>
              <a:t>Challeng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You’re going to produce an illustrated version of </a:t>
            </a:r>
            <a:r>
              <a:rPr b="1" i="1" lang="en-GB" sz="3200" spc="-1" strike="noStrike">
                <a:solidFill>
                  <a:srgbClr val="009900"/>
                </a:solidFill>
                <a:latin typeface="Georgia"/>
                <a:ea typeface="Times New Roman"/>
              </a:rPr>
              <a:t>Déjeuner du matin.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You can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out the poem on A4 paper with pictur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ound it to show all the things that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A4, set out the poem like a cartoon s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acques Prevert Paris, 1955 Art Print by Robert Doisneau"/>
          <p:cNvPicPr/>
          <p:nvPr/>
        </p:nvPicPr>
        <p:blipFill>
          <a:blip r:embed="rId1"/>
          <a:stretch/>
        </p:blipFill>
        <p:spPr>
          <a:xfrm>
            <a:off x="7885080" y="3645000"/>
            <a:ext cx="1069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8:18:07Z</dcterms:created>
  <dc:creator>Ad</dc:creator>
  <dc:description/>
  <dc:language>en-US</dc:language>
  <cp:lastModifiedBy>scollett</cp:lastModifiedBy>
  <dcterms:modified xsi:type="dcterms:W3CDTF">2010-06-25T04:01:10Z</dcterms:modified>
  <cp:revision>10</cp:revision>
  <dc:subject/>
  <dc:title>Slide 1</dc:title>
</cp:coreProperties>
</file>